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B61-0FB9-4776-AB43-42D06215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4B9-5CCB-4B2B-A183-DF995982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77D-C5D3-4C68-988E-8A0F4036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BD9-57F7-40C4-8D83-A2AF8972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B15-C914-4D6E-9B9D-88B2B9B8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A93-2CAB-4228-AFC7-1AAEA781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688-FD1C-4948-B135-1AFE7282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C6F-78F0-4268-A136-45F236DE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305-3EDF-4702-AE43-46DB0AA8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7DC-A2EC-41CB-9F91-83AAF66D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4B7-C039-4AD8-A766-A4E0330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421-B85B-4ECF-B62A-75D40B4A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A07C-9059-48AA-91A0-9707E09DC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80200" y="1447920"/>
            <a:ext cx="381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 Clinic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238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429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419360" cy="441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429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609480"/>
            <a:ext cx="813096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43 year-old man with an acutely swollen leg is exam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 a medical clin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48720" y="160020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15328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76520" y="3048120"/>
            <a:ext cx="5715000" cy="267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3048120"/>
            <a:ext cx="1143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3048120"/>
            <a:ext cx="13716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6:36:13Z</dcterms:modified>
  <cp:revision>215</cp:revision>
  <dc:subject/>
  <dc:title>Slide 1</dc:title>
</cp:coreProperties>
</file>